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5F76-BCD5-42EC-95A6-55D21BA6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7EDC-11AC-497D-B630-A4C9FCC9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6C4A-0B24-4866-A16D-F8BDB5D3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9370-66F0-4142-9B87-B3812804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FC6-C93F-4C0F-AF6B-49C24754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8C6C-C0E8-450B-A400-145580D3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4A3-5E89-4E3D-A1E8-695C89EC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EA31-8016-4589-877B-5DA0ACDF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D15A-5C84-4D26-85A1-4D254351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91A4-C885-4252-B6D7-E54BC46F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A1E1-B503-48EB-B815-1804F39A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079C-2656-4A07-BC77-0D26EDC7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7599-EC7A-4115-A62D-6EE661029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Jamaica Louise James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roup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clea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keep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pleas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fe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8. tre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9. mea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0. rea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1. th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w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b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7. ea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-360"/>
            <a:ext cx="44956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2. peopl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3. stream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4. steep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Jamaica Louise James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tre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th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Jamaica Louise James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roup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. stre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. stee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. spee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. peacefu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4304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0. leav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1. coff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2. sneak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13. meaningful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. seash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. deepe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. sunbe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. plea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. neat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95680" y="0"/>
            <a:ext cx="4648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4. rea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5. clea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6. scre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7. kne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0:54:43Z</dcterms:created>
  <dc:creator>Kathryn.Cobb</dc:creator>
  <dc:description/>
  <dc:language>en-US</dc:language>
  <cp:lastModifiedBy>Kathryn.Cobb</cp:lastModifiedBy>
  <dcterms:modified xsi:type="dcterms:W3CDTF">2008-01-04T12:05:35Z</dcterms:modified>
  <cp:revision>4</cp:revision>
  <dc:subject/>
  <dc:title>The Art Lesson Group A</dc:title>
</cp:coreProperties>
</file>